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66760" y="22860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cecece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Introduction to Amateur Satel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676520" y="30492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380880" y="30312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343400" y="5241960"/>
            <a:ext cx="46054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rry A. Baines, WD4A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ce President-Field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SAT-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0040" y="45072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01760" y="1249200"/>
            <a:ext cx="8088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 Wide Variety of Satellites Ex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9320" y="2438280"/>
            <a:ext cx="685800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 Satellites Currently in Operation + MI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Satellites in Orbit Undergo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ital Store and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M Repeater   2 Meter/435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B/CW  2 Meter/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B/CW  2 Meter/435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066680"/>
            <a:ext cx="6932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SCAR Satellites In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19320" y="1279440"/>
            <a:ext cx="685800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un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S-12/1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5 FEB 9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-15-144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O-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 JUN 8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SB/CW Molynia Or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O-1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2 MAR  8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00 bps AFSK AX-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O-1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2 JAN 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C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U-1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2 JAN 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cket BBS/Digip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-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7 FEB 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SB/1200 bps 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O-2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JUL 9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00 Baud DFM B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O-2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6 SEP 9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00 Baud DFM B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76320" y="1249200"/>
            <a:ext cx="6932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SCAR Satellites In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19320" y="1981080"/>
            <a:ext cx="68580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un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O-2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6 SEP 9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ly FM Analog Satel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-2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AUG 9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gitalker/Transpo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M-3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 JUL 9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00 Baud DFM B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-3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 JUL 9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00 Baud DFM B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-3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NOV 9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rgoing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-3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6 FEB 9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rgoing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oSAT-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1 APR 9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rgoing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cent Amateur Satell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16002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nSAT (SO-32) Launched 23 FEB 99 @ 0230 PST from Vanderburg AF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 9600 baud digital store-and-forward B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Resolution Imaging System (on S-B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oSAT-12 Launched from 21 APR 99 @0500 from Baikonur Cosmod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ries a Number of Imaging Payloads (Up to 10 Meter Re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e and Forward Communications VHF / UHF and an L/S Band Transponder / High Speed Digital Downl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 band downlink can run at speeds up to 1Mb/s for downloading imaging data, and can also be used as an L/S band analog transpond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17760" y="22212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cecece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382840" y="1249200"/>
            <a:ext cx="4137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uture Satell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47920" y="2286000"/>
            <a:ext cx="685800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USat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izona St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M Repeater/9600 B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unch September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SE 3-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ateur Radio’s Largest Satel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UTS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sinki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versity of Tor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QUIRT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QUIRT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228600"/>
            <a:ext cx="8763120" cy="647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071800" y="1249200"/>
            <a:ext cx="4730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rbital 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95280" y="2384280"/>
            <a:ext cx="68580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centricity-How Circular the Orbit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ogee:  Point Farthest 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gee:  Point Closest to Ear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ination Relative to the Equ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plerian Elements “Describe” the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312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920960" y="1249200"/>
            <a:ext cx="5040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atellite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95280" y="2133720"/>
            <a:ext cx="68580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SY Bi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S Satellites: RS-11/12, RS-15, RS-16  (Russ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ned Satellites (MIR/SAREX/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al Use:  FO Satellites (Japan)/AO-27 (F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gital Satell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arily “Store and Forward” Bulletin Bo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Payloads (Cameras/Sens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SK Mode (AO-16, LU-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00 DFM (UO-22,  KO-25, GO-32, SO-3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00 AFSK (UO-11, M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8k4 and 78k6 DFM (TO-3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X Satell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O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se-3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898720" y="1447920"/>
            <a:ext cx="3063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y Tr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95280" y="2819520"/>
            <a:ext cx="68580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s are Moving Transpo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ed  to Predict When the Satellite Will be in View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tenna Pointing/Doppler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tual Pass with Other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67160" y="1249200"/>
            <a:ext cx="37418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eplerian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95280" y="2133720"/>
            <a:ext cx="685800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ps” are the Variables Which Describe a Satellite’s Or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ps are Developed by NORAD/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 Provides Reforma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ps are Distributed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cket Bulletin Bo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BS (DRIG, NASA, AMSAT BBS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b Sites (www.amsat.o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omatic e-mail receipt from keps@amsa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ations (AMSAT Journal, O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53352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76520" y="1066680"/>
            <a:ext cx="5867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cking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1752480"/>
            <a:ext cx="68580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Tracking Program Can Utilize Keplerian Data to Compute the Position and Velocity of a Satellite for Any Give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tenna aiming for azimuth and elevatio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ppler Shift Correction Based Upon Relative Velocity of the Satellite to the Ob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Predictions of When a Ground Station will be in View of a Satel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Variety of Tracking Programs ar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areware from AMSAT Web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VA-32 (WIN-95/98) and Instant Trak (DOS) available from AM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Doppler for Macintosh available from AM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865160" y="1249200"/>
            <a:ext cx="5151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resentation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95280" y="2590920"/>
            <a:ext cx="685800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Overview of the Amateur Satellit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an Amateur Radio Satellite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king the Satell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king the Easy S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urces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39720" y="1249200"/>
            <a:ext cx="7610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atellite Demos at Ham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9320" y="2133720"/>
            <a:ext cx="6858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th AO-27 and FO-29 (Digitalker Mode) Can be Worked with a Two-Meter Handitalk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ing Hamvention, There will be Several Good Passes of AO-27 during Exhibit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O-27 Passes are 1158 EDT Saturday and 1104 and 1244 EDT on Sun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erry Schmidt, KK5YY Will Conduct Demos of Working AO-27.  Meet at the AMSAT Booth 20 Minutes Prior to Each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06840" y="1249200"/>
            <a:ext cx="1681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O-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95280" y="2590920"/>
            <a:ext cx="685800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ly FM ‘Repeater’ Satel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link 145.850 MHz/Downlink 436.795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ar Orbit--2 to 3 workable passes/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ks in Daylight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Operators use 1-3 Watt HT with Yagi Antenna (such as the Arr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635280" y="1249200"/>
            <a:ext cx="1623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O-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447920" y="1981080"/>
            <a:ext cx="685800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ains Digitalker, Mode JA Transponder, 1200/9600 BPS Packet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in Digitalker Mode, Transmits on 435.91 MHz 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ed to Compensate for Dop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gitalker Transmits a Shor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be heard with HT with Stock Rubber Duck-May need to rotate rig/antenna for Best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-29 Operating Schedule Available from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573200" y="1249200"/>
            <a:ext cx="5745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urces of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95280" y="2590920"/>
            <a:ext cx="685800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dic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et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BS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 Area Coordi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38280" y="1249200"/>
            <a:ext cx="7618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eneral Information 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295280" y="2590920"/>
            <a:ext cx="685800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w to Use Amateur Radio Satelli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7th 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orking the Easy Sats (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de S:  Th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RL Hand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RL Radio Amateur’s Satellite Handboo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RL Satellite Anth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48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74680" y="1523880"/>
            <a:ext cx="8342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ooks for Specific Satellite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95280" y="2590920"/>
            <a:ext cx="685800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og Satellites Operating Guide  (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MSAT-NA Digital Satellite Gu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Includ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SP Install/Setup Instructions added in 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3G to P3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coding Telemetry from Amateur Satell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041560" y="1676520"/>
            <a:ext cx="5273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eriodic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295280" y="2590920"/>
            <a:ext cx="716292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 Journal (Published Bimonthly/distributed to memb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CAR Satellite Report  (Harlan Technolog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gazines with Satellite Colum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Q/VHF Mag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Q Mag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3 Mag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Rad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28560" y="1249200"/>
            <a:ext cx="7635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-Mail Resources from AMS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295280" y="2286000"/>
            <a:ext cx="68580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 News Services (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PS (Keplerian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-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R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-Mail is Sent  to Your Internet E-Mai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scribe by Sending Message to: majordomo@amsat.or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structions Available on AMSAT web Site (www.amsat.org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135240" y="1249200"/>
            <a:ext cx="2611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BS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95280" y="2590920"/>
            <a:ext cx="685800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8 Telephone Sites Nation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 Information Available on AOL/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verage of Weather, non-AMSAT Satellit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y Require Pre-registration to Gain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st of Sites Available from AM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987480" y="1249200"/>
            <a:ext cx="6929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orld Wide Web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95280" y="2590920"/>
            <a:ext cx="68580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  //www.amsa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  //www.tapr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ks Available to Related Web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71800" y="1249200"/>
            <a:ext cx="4757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mateurs in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95280" y="2590920"/>
            <a:ext cx="685800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Amateur Satellite Launched in December 19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s carry a variety of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s are built by a variety of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variety of organizations (AMSAT, Universities, Private Companies) have built satell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90800" y="1249200"/>
            <a:ext cx="4897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ow Do I Get Hel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295280" y="2590920"/>
            <a:ext cx="685800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l Satellite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 Nets (HF and VHF)-Listing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 Field Organization (Area Coordina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-Mail (AMSAT-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mfest Fo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 Exhibits/Hamfest Pres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1523880"/>
            <a:ext cx="7875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MSAT Field Org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95280" y="2590920"/>
            <a:ext cx="685800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a Coordinators:  AMSAT’s Ambassa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0+ Volunteers in USA and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% Use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ve Knowledge/Get Ans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ke Local Presentations/Hamfest Pres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a Coordinator List Availabl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PHASE 3-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04840" y="1249200"/>
            <a:ext cx="6675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ere Do I Go From 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95280" y="2590920"/>
            <a:ext cx="68580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sit the AMSAT Booth at Hamf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Area  of Interest--Get 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tilize the AMSAT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an AMSAT Area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est a Club Satellit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der Joining AMSAT/ Receive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MSAT Jou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43080" y="38088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76520" y="38088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880" y="37944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PHASE 3-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5320" y="1249200"/>
            <a:ext cx="5292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or Mor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295280" y="2590920"/>
            <a:ext cx="685800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-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.O. Box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shington, DC  20044-00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l.  (301) 589-60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-mail:  martha@amsa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 Local Area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rry A. Baines, WD4AS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398 Phillips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cksonville, FL 322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l. (904) 398-51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-mail:  wd4asw@amsa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881360" y="1249200"/>
            <a:ext cx="51246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is an Satell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k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a Repe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95280" y="3124080"/>
            <a:ext cx="68580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ransmits what it “hea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 Optimized Receivers, Transmit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en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at Location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ables Small Stations to Communic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 Greater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52560" y="1249200"/>
            <a:ext cx="69850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is an Analog Satell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lik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a Repe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95280" y="2895480"/>
            <a:ext cx="68580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 a Moving Footprint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tion Changes/Availability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cy Alteration due to Doppler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ll Du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plink and Downlink on Different Band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-mode (CW/SSB/Dig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ld Wide”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488960" y="1249200"/>
            <a:ext cx="59151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nalog Satellites Util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ponder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95280" y="2819520"/>
            <a:ext cx="6858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ives a SEGMENT of One B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ransmits EVERYTHING It Hears 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other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erting Transpond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est Incoming Frequency is Retransmitted Over the Highest Outgoing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erts Signal (LSB to US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346040" y="1447920"/>
            <a:ext cx="6197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vailable Satellite B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95280" y="2819520"/>
            <a:ext cx="685800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nds Exist from 10 Meters to 24 G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0 CM/Two Meters Often Are Ut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ous ‘Mode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ift Towards Higher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It or Lose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54320" y="1249200"/>
            <a:ext cx="4363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atellit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95280" y="2209680"/>
            <a:ext cx="68580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itude Control (RCS, Torquing Coi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ral Computer (IHU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s (Command Rcvr/Beacons/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 Supply (Batteries/Solar Panels/BCR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gineering Telemetry (Electronic Sensors/Enco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vironment Control (Mechanical Design, Heat Pip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idance and Control (Sun/Earth Sens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ssion-Unique Equipment (Transponders/GPS/C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ulsion (Kick Motor/Arc J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of the Satellite Development Effort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olve Amateur Ra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69880" y="1249200"/>
            <a:ext cx="5943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atellite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95280" y="2590920"/>
            <a:ext cx="6858000" cy="35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ital/Anal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bital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cies Utiliz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ylo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rry A. Baines</dc:creator>
  <dc:description/>
  <dc:language>en-US</dc:language>
  <cp:lastModifiedBy>Barry A. Baines</cp:lastModifiedBy>
  <cp:revision>0</cp:revision>
  <dc:subject/>
  <dc:title>No Slide Title</dc:title>
</cp:coreProperties>
</file>